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BEA1-02C0-467A-8892-82A7027B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DBB9-E962-4915-80CF-B0CCBEC1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4F319-844B-4ECE-8F69-153D8DE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82E3A-1C5E-4D64-BACB-B7BF633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92CA0-8068-4691-8907-991C9831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CD79F-0F22-41C7-A0D2-716370C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D0793-1D09-4538-9F35-C0853D3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B2C6-B3F5-40DC-8060-996995F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6C7CB-2065-4C2E-84AE-A587A8D2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FAF9-7340-448E-8DE1-759A1757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4D95C-7313-45D3-9022-7C7039C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66466E-39CB-4942-9E7C-C5A3AB67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E3B6-79E5-4499-BAE1-22BEFAE1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38B0E5-B255-47AD-93AC-F389E45B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D4DE8D-64C5-46C9-93B9-E6FF168E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616593-2E4F-418C-A09E-D6B8647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C0EE02-0AAD-4390-973A-1145C355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7FE827-2B33-476E-9002-44C12D1C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1237D0-330A-4D77-AE74-9B2EC23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47F80D-D88C-4AAD-ADFB-12D4686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EA9F05-823F-4331-8F09-C4BBD37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0BE8AC-B4CB-4775-99BA-341D616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5D316-0BCA-458E-BB43-A8136AA6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596D-89EE-4762-AD1B-F9A03262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778A3-6BCA-4E42-9A64-8A2859F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A4B2E-838E-4626-91E5-7C988330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9BDC6-7F06-4E9F-86EE-A4FED616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F291-E749-4C44-AEFC-61284CD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7B773-4FBF-4198-99CA-FEFECCF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81E6-ACAD-4467-B3B2-ACE1283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BAE8D-78EC-444F-8F11-85FFD48B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7176F-A105-4634-BAC8-5AF1B35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ADBF7-8392-453B-89D9-173F1C16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9648D-B4B9-4BCE-8437-7919681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7261-1A7F-4546-A598-954003F1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E93E-7BF2-46D7-979C-6E7D5713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0A98F-5C8D-4CCA-BB6C-35E8A845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62C5A-3910-4CD1-A9E0-8D8E69B2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07C3B-11A5-4CC2-8FE7-6F8345F1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42831-196A-472E-9B81-3232DE9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F3C97-BDC9-4FCA-958C-9FDA8BC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94D2A-621A-49E6-BBF8-D1D76E0F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C892A-08F6-4C11-8801-00D70DA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ED063-4E1E-4F2A-9728-0864D272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14EB7-6818-45A6-8FE3-C3E03B0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C991-05C1-4E5F-92AC-400B5199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2438E-0222-491D-B2E5-BCA63AE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35AC6-935F-43FE-A30D-B20061C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CF5F6-12FD-43C0-9BE6-0CA41C2E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582C9-B820-4D6E-B9DB-C682DA2E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CCE1-0930-4783-AFD4-6E27F014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EEA78-E235-4F94-9825-380F6F0D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18CA4-2CBB-4283-8DF7-2CF69E6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D727F-A334-4116-80AE-99B2A91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5D8E8-24ED-499F-9178-C1BD3D2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31482-2618-46B6-9721-85EFE52E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5601-59B9-4A7B-800A-FE25744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81638-F0D6-455A-BC40-EA780EBB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CD506-F431-4BD3-9AF4-368AE1A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D4FC0-ACCE-4ADA-9583-263ED042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D5522-00F1-42FA-9F7C-6286169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7E500-71AB-4901-8FD9-B16403FB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A1AE-5215-4E6C-9743-FF76056F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5CEA5-7B57-47C0-9C56-61B0D70E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A4672-6453-47B4-B6C8-C9243DBF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27D2A-83C8-4A34-A9A3-B688BCEA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02955-D8CE-43EE-BC77-16D631F4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AF3-7FAE-4D52-8BF9-758A3CF1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35562-7D26-4983-9AF6-261A432F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E1DA7-CCA6-4EF1-8E1B-F6FAED8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7C44A-2939-4DAE-B181-982AB865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4D952-B8E8-475D-A422-DCBE6E2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AC6C1-B20D-45BD-83C8-ED73EE8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21E2C-F2E0-4ED4-9EFC-A553B6F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BBC0E-61B1-47FA-BF1C-A7610C0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9DE20-3ABF-4E63-B99A-4D4DC224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9598A-45BF-47CB-8F97-FA0006C8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B071-2239-46DA-9064-0E7A4C5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72E5-A534-48FD-A927-1DF2EBD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16E-2CFE-48A1-904B-6AAA2CB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0BFD-B388-4AEE-950D-B9494C5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614F-59DC-4E4D-A9ED-0CB5A22F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F22-4D2B-4E97-8904-99E0A14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98C8-6FE5-4B4E-92C9-A3F7110D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5532-1F64-4A01-A5B1-F282BB6F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16C-8266-458E-89B8-89297ED4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3A91-275B-43CD-8726-E2E4B435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78D8-E1D2-438D-BF42-ECD232E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3AF9-7E5F-4CAC-9EFF-59424BA7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8BE5-AACB-4C72-BC2B-02B8C2F4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A179-A1C9-44F3-946A-AFBA91A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917C-4A58-4F0B-A99F-AAEAF091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FB56-901E-4494-ACA0-FDDB2044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5966-599D-4A64-B7DB-862D77B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D749-A3E9-4FF7-A3D4-7B08ADB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B175-9E22-494A-978A-1BEFB63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6EF1-E489-4B8C-BCFB-02B0A2F3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F0FA-FA7D-4071-8C62-455F965D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0935-6107-4F01-9763-2896DF6C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66ABC-0AC5-4E46-A950-61056088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1611E-6772-4D91-81BA-3D57A4C4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B37DB-C6E5-4C86-B80C-5F0E464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325E-04DA-47A4-87D9-85D0AA9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FA622-BA40-49AB-BDD6-C1F3428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47C63-9B97-4864-BD9D-0188E0FB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6FA52-F57C-4EC3-B98A-8BBEE1D5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4F7FA-A59E-4BB4-8B4D-7ECCCDB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A9D27-456F-4755-825A-88E2FDC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6730D-AACE-4815-8D67-F351DDDB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B05AF-36A1-442A-ABBB-3F3BFDB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52664-706D-4428-B2B8-E743A1A5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063A7-5AEE-42E6-979A-C871793A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FA60-6238-4643-9F03-128D873E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F676-7F04-430D-9F2D-FB14E6B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6259-16C3-4771-AC0E-E90CAC7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93CA-FEE1-4C58-B239-9E796BFD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86BF-ED57-4D6C-BC9B-5A239BE8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A5870-F710-470E-B08E-E52B0B5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ED0D-51EA-4484-A686-F44B7893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9FD9-F709-4CE8-B059-924D5E9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C0B3-068B-49E3-B065-FCBB177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030B-5016-4615-A223-72E5772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96E0-44E7-41DC-9B4E-8E780EAF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ED63-F382-49B1-8731-8CA0FD5C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F6F5-E1DF-44AA-AC05-09F3914E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CA64-6FBE-4960-AB1C-25D7D011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2E80-B88D-4A8E-857F-4A32A190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19D54-A414-40F1-A147-F285D29C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36261-A309-4346-BE49-F86358E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32F9E-AFE0-4F34-9BC1-4CB54E0F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F05B-71AA-423C-BDCA-37DE4E3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E4A8-7521-4EFC-A0AA-89AF4ECE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1072-C031-49A6-9541-91A742B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73C9-8996-459D-A77C-54664D8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E5DA-A658-4A7B-AA06-DC70EB09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5132-B80A-4403-9DD5-F380427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93E27-F170-4632-A309-D5DF9DFC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B4DB-35A6-4ACE-9CCC-5F79574E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A6F3-6AC1-49AC-8544-54D82DFA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026D-B9AC-4EE7-8214-3495466E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E6B5-48EE-4457-97F9-19376151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9AB3-E273-41C7-AC1E-F064868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A28E5-3C24-4624-8B63-BE8E51C7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EAB57-1461-4895-8995-5BAEF415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2B37-EA8B-4BDF-AB91-07E25432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2D64-6491-4EFB-B918-EB0849A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652D-8633-48AF-B50A-F139F57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55808-F024-495D-9BC5-54EF5FF8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93DB-EBBB-4C1E-AEB9-532E813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8D31B-3269-48EF-88C7-D458D1C7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0EF2-5BB9-4DC1-9F22-908D304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051D-1927-4577-833B-67EB63C2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6A71-249E-4A26-B979-50C707B2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B014C-5FC1-4841-BA1F-70788C76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D1150-B323-4E00-BFFB-F3E11BE9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22A37-DC13-432E-B24A-66B98764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A27F9-E5DF-4D64-A8A4-31EAC99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9357-312B-4A30-8131-2B60F89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A81A9-1402-4327-9BFA-0E287CC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71DC2-2ED8-422B-B720-729F8068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034E7-3060-403D-8449-1EC45D4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90F1-8420-47E7-AA65-FF67627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C27C7-845D-4FDB-9A51-308E3D58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8E850-7ED1-416A-BFF4-A808A7E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C25F4-1FC0-4412-8EC8-23F5A931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283A3-D5A2-4F5B-871C-4F2D1DD0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AC5B2-EF74-41CE-9511-BAE90F0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CEBCD-C9F0-4DBA-B98F-21AFD35A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BB52-FCC5-4E29-A89A-EBE1115302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3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4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4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9615-268F-40DE-B0EE-F3ED745B6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9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037-C8E5-4A5D-8EAE-DAE069299B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4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505C-B269-42CB-BDC5-1BEEEB7C65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8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F234-C107-4389-B623-F231ABED2D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6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5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2C1-EF3B-446E-973A-9C92E424C6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3E77-1CDB-42A7-8E7D-12947109C8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76BD-0F0E-4548-9514-E1BAA14A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FA37-C51B-4582-B457-34D4B1134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0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97E-2C2E-4150-A4A7-B443B0F63CF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A6DE-4938-422C-983F-F0FCBF048D3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5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FE70-4164-48C6-A2AB-F56C934F6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FEFC-6D05-4C29-8981-EED95284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8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B77-069D-422D-8462-4FF3FECF79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Ru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Eliomar Ortiz and Miguel McG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Man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 n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van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seguida. El es muy cansado. Jose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ues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r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Desayun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mas s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esayun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El esta comiendo un rosquilla y esta tomando lech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3352680" y="4264200"/>
            <a:ext cx="2590920" cy="175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va los dien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an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va los dien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El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 cepillo de dien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 tubo de pasta dentifr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971800" cy="188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char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ue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uc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E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va la pe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 cara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 cuerpo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champ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 bara de jab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37176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narse la rop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m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 pone la rop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 ir a escue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276720" cy="2428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urante la noch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r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er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la cama. E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ermis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gu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2895480" cy="201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6:59Z</dcterms:created>
  <dc:creator>ortizeli</dc:creator>
  <dc:description/>
  <dc:language>en-US</dc:language>
  <cp:lastModifiedBy>ortizeli</cp:lastModifiedBy>
  <dcterms:modified xsi:type="dcterms:W3CDTF">2012-04-05T15:28:52Z</dcterms:modified>
  <cp:revision>4</cp:revision>
  <dc:subject/>
  <dc:title>La Rutina</dc:title>
</cp:coreProperties>
</file>